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3B0-622B-4EA1-8945-718C153C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87C-A455-48FB-8C84-F06E535D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BF4-0C36-41D5-80B6-E2259796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0AB-3564-4DDA-AB1D-63622A3C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EFB-398A-4E63-9FCA-80ACFC52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AD9-F41E-45C5-A722-40A628DC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4B2-BEA4-4548-8621-74C00EB6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579-EE11-4D03-9F4F-8BAF1BDF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CF8-7D44-44C8-A033-BD3D5F16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A0D-CE4D-4493-B1CE-DC204FA1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3F0-E51A-4774-B8F9-1975CCE3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ACC-80FF-411B-A91D-B726B64D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244F-6C71-4F0D-B308-9FD8EBAC1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tT_8sFJx1w&amp;feature=player_embedded" TargetMode="External"/><Relationship Id="rId2" Type="http://schemas.openxmlformats.org/officeDocument/2006/relationships/hyperlink" Target="http://www.youtube.com/watch?v=htT_8sFJx1w&amp;feature=player_embedded" TargetMode="External"/><Relationship Id="rId3" Type="http://schemas.openxmlformats.org/officeDocument/2006/relationships/hyperlink" Target="http://www.youtube.com/watch?v=htT_8sFJx1w&amp;feature=player_embedded" TargetMode="External"/><Relationship Id="rId4" Type="http://schemas.openxmlformats.org/officeDocument/2006/relationships/hyperlink" Target="http://www.youtube.com/watch?v=htT_8sFJx1w&amp;feature=player_embedded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ome.clara.net/darvill/altenerg/hydro.htm#di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38440" y="1143000"/>
            <a:ext cx="566712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ydroelectric Pow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Kelly Br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 Bur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hydroelectric power work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ydroelectric P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hydroelectric pow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produced by potenti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ergy of dammed water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is driving a wa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bine and generator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=htT_8sFJx1w&amp;feature=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layer_embed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Water_turbine.jpg"/>
          <p:cNvPicPr/>
          <p:nvPr/>
        </p:nvPicPr>
        <p:blipFill>
          <a:blip r:embed="rId5"/>
          <a:stretch/>
        </p:blipFill>
        <p:spPr>
          <a:xfrm>
            <a:off x="4724280" y="1752480"/>
            <a:ext cx="38102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 hydroelectric dam work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build a dam you usually need a large river that has a large drop in elev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am stores a lot of water behind it in a reservo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the bottom of the dam there is a water intake, which causes gravity to fall through he penstock in side the da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end of the penstock there is a turbine propeller, which works by water moving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haft from the turbine goes up into the generator which produces the pow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the generator has power lines that are connected to it which gives homes pow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3" descr="575px-Hydroelectric_dam_svg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438120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antages of Hydroelectricit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ss of a dependence on uranium, oil, or other types of fue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llution is very minim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ams can be set up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almost any size, depend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pon the river or strea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d to operate th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ydroelectric stations ca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e for many years aft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are bui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no_oil.gif"/>
          <p:cNvPicPr/>
          <p:nvPr/>
        </p:nvPicPr>
        <p:blipFill>
          <a:blip r:embed="rId1"/>
          <a:stretch/>
        </p:blipFill>
        <p:spPr>
          <a:xfrm>
            <a:off x="5410080" y="2209680"/>
            <a:ext cx="373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advantages of Hydroelectricit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ams disrupt the natural flow of rivers, which will alter the river and riverside hab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edes the natural flow of sedi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ams are obstacles for fish mig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tastrophic failure, meaning if the dam were to break many people may die that live around the d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Inform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% of dams in the United States are used to make hydroelectric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ut 20% of the world’s electricity comes from hydropower, about 10% is used in the United Sta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ve all other countries, Canada is the leading producer in hydropow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 one half of the total U.S. hydroelectric capacity for electricity generation is concentrated into three states: Washington, California and Oreg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Text Placeholder 2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038480" cy="2057400"/>
          </a:xfrm>
          <a:prstGeom prst="rect">
            <a:avLst/>
          </a:prstGeom>
          <a:ln w="0">
            <a:noFill/>
          </a:ln>
        </p:spPr>
      </p:pic>
      <p:pic>
        <p:nvPicPr>
          <p:cNvPr id="59" name="Text Placeholder 2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54100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Inform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lants are very hard to make, people have to put a lot of time and effort into making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problems with there construction are that  that have to have 50 years of data before then can even build whe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want to build a d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ms are ve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nsive to bui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4191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ome.clara.net/darvill/altenerg/hydro.htm#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righthub.com/engineering/mechanical/articles/7730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williams.edu/Geoscience/greenenergy/hydroelectric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ga.water.usgs.gov/edu/hyhowwork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n.wikipedia.org/wiki/Hydro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22:57:44Z</dcterms:created>
  <dc:creator>Matt Burger</dc:creator>
  <dc:description/>
  <dc:language>en-US</dc:language>
  <cp:lastModifiedBy>SASD</cp:lastModifiedBy>
  <dcterms:modified xsi:type="dcterms:W3CDTF">2009-04-24T12:02:43Z</dcterms:modified>
  <cp:revision>11</cp:revision>
  <dc:subject/>
  <dc:title>Hydroelectric Energy</dc:title>
</cp:coreProperties>
</file>